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9FC-F265-427C-813D-069336A6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256-6B6B-460A-8E63-71F4EFA8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5FC-4408-47F6-9EF3-996182EB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57A-C728-41BC-A5AA-0402804A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187-83DF-470C-911A-557699AA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661-6A94-405B-8D02-43F8B2A1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9E1-F6AF-4AC2-BD50-C41756C5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730-7D8E-42E7-AAEC-864680B6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9D5-5219-4027-9E36-7417C94B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E10-3363-4391-BDE6-E804833A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655-EA0B-49A6-9D49-FB1F697F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308-E26C-416B-AD1C-8E4C79BD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9562-62B1-4BEC-B407-BC91AA1AD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92360" y="98100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Наурыз мейрамы</a:t>
            </a:r>
            <a:br>
              <a:rPr sz="4800"/>
            </a:b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құтты болсын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541440" y="3213000"/>
            <a:ext cx="1081584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ahoma"/>
              </a:rPr>
              <a:t>Поздравля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ahoma"/>
              </a:rPr>
              <a:t>с праздником Наурыз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132000" y="1844640"/>
            <a:ext cx="30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Мейр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3789360"/>
            <a:ext cx="32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Праз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00360" y="220500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К</a:t>
            </a: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ө</a:t>
            </a: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кт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35280" y="3933720"/>
            <a:ext cx="26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Ве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95640" y="184464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Қуаны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6360" y="3860640"/>
            <a:ext cx="33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Рад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771640" y="141300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Табы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3645000"/>
            <a:ext cx="266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Успе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71640" y="141300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Үмі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7640" y="3573360"/>
            <a:ext cx="345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Надеж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92360" y="1773360"/>
            <a:ext cx="59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Мейрамыңызбен</a:t>
            </a: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0920" y="3789360"/>
            <a:ext cx="5185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С празднико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7640" y="1989000"/>
            <a:ext cx="84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Біз сіздерге ... тілеймі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371628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Мы желаем Вам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0000" y="170028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Денсаулы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378936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68360" y="162864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Бақы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3573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Сча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68360" y="2133720"/>
            <a:ext cx="41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Махабб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378936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Люб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6720" y="1700280"/>
            <a:ext cx="337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Байлы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22960" y="3429000"/>
            <a:ext cx="434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Благополуч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68360" y="1413000"/>
            <a:ext cx="47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Ашық асп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3500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Светлого не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16000" y="227664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Жақсы көңіл-кү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6280" y="4149720"/>
            <a:ext cx="698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Отличного настро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93040" y="1700280"/>
            <a:ext cx="497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Сенімді доста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364500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Верных  др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29:40Z</dcterms:created>
  <dc:creator>gvgvsd</dc:creator>
  <dc:description/>
  <dc:language>en-US</dc:language>
  <cp:lastModifiedBy>library</cp:lastModifiedBy>
  <dcterms:modified xsi:type="dcterms:W3CDTF">2010-04-29T04:17:48Z</dcterms:modified>
  <cp:revision>19</cp:revision>
  <dc:subject/>
  <dc:title>Слайд 1</dc:title>
</cp:coreProperties>
</file>