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012-4938-49FF-83E7-E119B1A9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7F1-E7AC-4944-9B0C-0AB62B3F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896-DB25-4F69-8042-750B9C6F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1D1-99FF-424E-BCD8-F7B0EC61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7D34-B33A-45A8-A7AB-822EE81A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FC3-EDD2-49D1-9EFD-ADDB9A19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4CE-CA8D-4187-A91B-94CE0757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531-3FF3-4071-A56D-F89F16F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AC8-1AFE-4854-A188-399555B8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88B-961F-49B9-A3AB-18264E19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C2D-0A93-4970-8795-87309101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F9C-A83F-4ADD-8BB8-6B5CA037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7B49-5679-46AA-AF60-299C579C4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2360" y="981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Наурыз мейрамы</a:t>
            </a:r>
            <a:br>
              <a:rPr sz="4800"/>
            </a:b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құтты болсын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541440" y="3213000"/>
            <a:ext cx="1081584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ahoma"/>
              </a:rPr>
              <a:t>Поздравля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ahoma"/>
              </a:rPr>
              <a:t>с праздником Наурыз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32000" y="184464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Мейр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16360" y="3789360"/>
            <a:ext cx="32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Праз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00360" y="220500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ө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кт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5280" y="3933720"/>
            <a:ext cx="26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95640" y="184464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Қуаны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6360" y="386064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Рад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71640" y="141300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Табы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3645000"/>
            <a:ext cx="266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Успе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71640" y="141300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Үмі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3573360"/>
            <a:ext cx="345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Наде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92360" y="1773360"/>
            <a:ext cx="59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Мейрамыңызбен</a:t>
            </a: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3789360"/>
            <a:ext cx="5185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С праздник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640" y="1989000"/>
            <a:ext cx="84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Біз сіздерге ... тілеймі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371628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Мы желаем Вам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170028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Денсаулы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378936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68360" y="162864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Бақы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3573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Сча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68360" y="2133720"/>
            <a:ext cx="41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Махабба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378936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Люб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1700280"/>
            <a:ext cx="337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Байлы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2960" y="3429000"/>
            <a:ext cx="434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Благополуч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68360" y="1413000"/>
            <a:ext cx="47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Ашық асп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3500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Светлого не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6000" y="227664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Жақсы көңіл-кү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6280" y="4149720"/>
            <a:ext cx="698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Отличного настро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93040" y="1700280"/>
            <a:ext cx="497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ahoma"/>
              </a:rPr>
              <a:t>Сенімді доста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364500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33cc"/>
                </a:solidFill>
                <a:latin typeface="Tahoma"/>
              </a:rPr>
              <a:t>Верных  др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0:29:40Z</dcterms:created>
  <dc:creator>gvgvsd</dc:creator>
  <dc:description/>
  <dc:language>en-US</dc:language>
  <cp:lastModifiedBy>library</cp:lastModifiedBy>
  <dcterms:modified xsi:type="dcterms:W3CDTF">2010-04-29T04:17:48Z</dcterms:modified>
  <cp:revision>19</cp:revision>
  <dc:subject/>
  <dc:title>Слайд 1</dc:title>
</cp:coreProperties>
</file>